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image1.jpeg" ContentType="image/jpeg"/>
  <Override PartName="/ppt/media/glass.wav" ContentType="audio/x-wav"/>
  <Override PartName="/ppt/media/applause.wav" ContentType="audio/x-wav"/>
  <Override PartName="/ppt/media/drumroll.wav" ContentType="audio/x-wav"/>
  <Override PartName="/ppt/media/image3.jpeg" ContentType="image/jpeg"/>
  <Override PartName="/ppt/media/carbrake.wav" ContentType="audio/x-wav"/>
  <Override PartName="/ppt/media/image4.jpeg" ContentType="image/jpeg"/>
  <Override PartName="/ppt/media/image5.jpeg" ContentType="image/jpeg"/>
  <Override PartName="/ppt/media/explode.wav" ContentType="audio/x-wav"/>
  <Override PartName="/ppt/media/image7.jpeg" ContentType="image/jpeg"/>
  <Override PartName="/ppt/media/image2.jpeg" ContentType="image/jpeg"/>
  <Override PartName="/ppt/media/image17.gif" ContentType="image/gif"/>
  <Override PartName="/ppt/media/camera.wav" ContentType="audio/x-wav"/>
  <Override PartName="/ppt/media/image8.jpeg" ContentType="image/jpeg"/>
  <Override PartName="/ppt/media/image10.jpeg" ContentType="image/jpeg"/>
  <Override PartName="/ppt/media/whoosh.wav" ContentType="audio/x-wav"/>
  <Override PartName="/ppt/media/image9.jpeg" ContentType="image/jpeg"/>
  <Override PartName="/ppt/media/image11.jpeg" ContentType="image/jpeg"/>
  <Override PartName="/ppt/media/cashreg.wav" ContentType="audio/x-wav"/>
  <Override PartName="/ppt/media/image12.jpeg" ContentType="image/jpeg"/>
  <Override PartName="/ppt/media/image14.jpeg" ContentType="image/jpeg"/>
  <Override PartName="/ppt/media/driveby.wav" ContentType="audio/x-wav"/>
  <Override PartName="/ppt/media/image6.jpeg" ContentType="image/jpeg"/>
  <Override PartName="/ppt/media/type.wav" ContentType="audio/x-wav"/>
  <Override PartName="/ppt/media/image13.jpeg" ContentType="image/jpeg"/>
  <Override PartName="/ppt/media/gunshot.wav" ContentType="audio/x-wav"/>
  <Override PartName="/ppt/media/image15.jpeg" ContentType="image/jpeg"/>
  <Override PartName="/ppt/media/image16.jpeg" ContentType="image/jpeg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F6C-5C5D-4B4C-856C-E7E11A8F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8605-A47D-4FA5-A54D-5A972194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8028-1A6C-46D3-89EC-81E2A627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3417-5663-4CBF-B190-849D0D5A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69B-7A67-4686-805A-B9F48EEA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CD3-A0F4-4A4A-A929-C5D28760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A65-91A6-40D6-ACCD-3D078D52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DB9-38FA-457D-9C5A-86633467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05D2-4F34-4FC8-978B-3F9D3C99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9710-261F-4936-9AD2-DC253487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0E3-2C96-49C0-942F-07CF50D8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F857-3A28-4844-940F-46C755D7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4240-F5F7-4C86-9463-39FAA4E5B2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glas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audio" Target="../media/glass.wav"/><Relationship Id="rId6" Type="http://schemas.openxmlformats.org/officeDocument/2006/relationships/audio" Target="../media/explod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ashreg.wav"/><Relationship Id="rId4" Type="http://schemas.openxmlformats.org/officeDocument/2006/relationships/audio" Target="../media/driveby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4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audio" Target="../media/explode.wav"/><Relationship Id="rId8" Type="http://schemas.openxmlformats.org/officeDocument/2006/relationships/audio" Target="../media/camera.wav"/><Relationship Id="rId9" Type="http://schemas.openxmlformats.org/officeDocument/2006/relationships/audio" Target="../media/whoosh.wav"/><Relationship Id="rId10" Type="http://schemas.openxmlformats.org/officeDocument/2006/relationships/audio" Target="../media/driveby.wav"/><Relationship Id="rId11" Type="http://schemas.openxmlformats.org/officeDocument/2006/relationships/audio" Target="../media/glass.wav"/><Relationship Id="rId12" Type="http://schemas.openxmlformats.org/officeDocument/2006/relationships/audio" Target="../media/cashreg.wav"/><Relationship Id="rId13" Type="http://schemas.openxmlformats.org/officeDocument/2006/relationships/audio" Target="../media/glass.wav"/><Relationship Id="rId14" Type="http://schemas.openxmlformats.org/officeDocument/2006/relationships/audio" Target="../media/drumroll.wav"/><Relationship Id="rId15" Type="http://schemas.openxmlformats.org/officeDocument/2006/relationships/audio" Target="../media/applause.wav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1523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066680"/>
            <a:ext cx="5181840" cy="10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tencil"/>
              </a:rPr>
              <a:t>NEWSFLA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665680" y="380880"/>
            <a:ext cx="2909880" cy="3048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914400"/>
            <a:ext cx="40384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Martin Luther King has Been Shot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9880" y="0"/>
            <a:ext cx="5334120" cy="5334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9880" y="5334120"/>
            <a:ext cx="5334120" cy="1595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adi MT Condensed"/>
              </a:rPr>
              <a:t>Morehouse College where Martin Luther King att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adi MT Condensed"/>
              </a:rPr>
              <a:t>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4230720" cy="3198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867280" y="838080"/>
            <a:ext cx="2035440" cy="1535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04920" y="4800600"/>
            <a:ext cx="203508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00360" cy="2914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2895480"/>
            <a:ext cx="3581280" cy="2708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581280" y="0"/>
            <a:ext cx="3810240" cy="2873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581280" y="2819520"/>
            <a:ext cx="3810240" cy="2819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157720"/>
            <a:ext cx="8305920" cy="19227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ff"/>
                </a:solidFill>
                <a:latin typeface="Agency FB"/>
              </a:rPr>
              <a:t>The Bus Boycott's WORKED 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4929120" cy="3270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43000" y="46483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Martin Luther Kings Next Door Neighbour Talks exclusively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44197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04920" y="138240"/>
            <a:ext cx="8305560" cy="5729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6019920"/>
            <a:ext cx="7467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lfaen"/>
              </a:rPr>
              <a:t>The Hotel Where Martin Luther King was Shot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14400" y="2514600"/>
            <a:ext cx="7315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artin Luther King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1292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0" y="5187960"/>
            <a:ext cx="2209680" cy="1670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7620120" y="4724280"/>
            <a:ext cx="1523880" cy="2133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3809880" y="5257800"/>
            <a:ext cx="2362320" cy="1600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781680" y="1295280"/>
            <a:ext cx="17528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ble to for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4114800"/>
            <a:ext cx="5105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ught respect to the World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0"/>
            <a:ext cx="3657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Changer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549360"/>
            <a:ext cx="3743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Newsreader : India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19640" y="549360"/>
            <a:ext cx="35290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Reporter 1 : Mega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2492280"/>
            <a:ext cx="3743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Reporter 2 : Emil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2276640"/>
            <a:ext cx="352908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Reporter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Gabb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797360"/>
            <a:ext cx="374328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Reporter 4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Dan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76720" y="4724280"/>
            <a:ext cx="3672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Reporter 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All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91120" y="3143160"/>
            <a:ext cx="7617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9:18:22Z</dcterms:created>
  <dc:creator>India</dc:creator>
  <dc:description/>
  <dc:language>en-US</dc:language>
  <cp:lastModifiedBy>nb</cp:lastModifiedBy>
  <dcterms:modified xsi:type="dcterms:W3CDTF">2007-03-23T10:47:00Z</dcterms:modified>
  <cp:revision>4</cp:revision>
  <dc:subject/>
  <dc:title>PowerPoint Presentation</dc:title>
</cp:coreProperties>
</file>